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DD0-0641-4609-99D8-9909DAE8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D1D-4939-4CC1-A62E-0D2F4141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828-ADDC-41B6-82B9-B12C6FAC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96D-071C-4638-8A6B-B392E5F4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0EF4-46AE-4472-B0B7-6B7A4E8F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C84D-2A61-4FB2-B497-B9F2ABA8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9A3F-C1BB-4EF0-8D6C-620EA6C8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6A19-1A9F-4DC2-8948-744A6F33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CC7E-C99D-4032-8429-7BC8DC1E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1A02-F0D1-41BD-91C6-5894FD19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67DD-ABA5-40AD-BD51-8CBCC69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515-FE2B-4BA3-B812-21A9D344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9903-2FBD-41BF-B62C-27AB9D29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3AC3-645B-4A05-9A18-0AE2B48B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0BAB-E739-4831-8CF6-8B3B0376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BBD1-0B3B-41E1-999B-DA0BEB09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DBFA-58C5-4049-9752-E7645BD5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10E-20DE-4438-AB6A-3C76FAE9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985-EB19-42DF-99E0-8C09A1D3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1B3-2EB9-42CF-AAEB-5470D4BE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605-177B-4C94-8669-056F32A8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F52-9108-420A-B8BB-BAD1942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C5D-3A71-4AAD-A29F-864AD805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C2D-194B-4E09-8CC5-49C8DFF5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BDE9-1F1D-4CD3-AD6E-0670EC8A8D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6C1B-4527-4A37-AE0E-415C25FF23A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56851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Николай Федорович Ватутин – герой нашего кра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4436640"/>
            <a:ext cx="4034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0" y="981000"/>
            <a:ext cx="2343240" cy="3362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735280" cy="17211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2"/>
          <p:cNvSpPr/>
          <p:nvPr/>
        </p:nvSpPr>
        <p:spPr>
          <a:xfrm>
            <a:off x="3132000" y="404640"/>
            <a:ext cx="565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девяти детей в семье, Николай Ватутин родился 16 декабря 1901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лся в Валуйках(Старооскольский район, Белгородской области) и Уразово. В армии – с 1920 г. Окончил Полтавскую пехотную школу (1922), Киевскую высшую объединённую военную школу (1924), Военную академию имени М.В. Фрунзе (1929), оперативный факультет этой же академии (1934) и Военную академию Генштаба (19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атутин Николай Федорович (3.12.1901, село Чепухино близ Курска - 154.1944), военачальник, генерал армии (1943), Герой Советского Союза (1965, посмертно). Сын крестьянина. В 1920 вступил в Красную армию. В 1921 вступил в ВКП(б). Образование получил в 14-й пехотной школе (1922), Киевской высшей объединенной военной школе (1926), Военной академии имени Фрунзе (1929) и Академии Генштаба (1937). С 1922 командир взвода, затем на командных и штабных постах. Служил зам. нач. и нач. штаба Киевского военного округа. С 1940 нач. Оперативного управления и зам. нач. Генштаба РККА. Во время Великой Отечественной войны нач. штаба Северо-Западного фронта, зам. нач. Генштаба. С 1942 командующий войсками Воронежского, Юго-Западного (во время Сталинградской битвы) и 1-го Украинского фронтов (Курская дуга). Его войска приняли участие в освобождении Белгорода, Харькова, Киева. форсировании Днепра и т.д. Умер от ран, полученных в бою с соединениями украинских националистов. Погребен в Киев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227640" y="404640"/>
            <a:ext cx="2381400" cy="312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5292720" y="3860640"/>
            <a:ext cx="36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 генерал армии Ватутин Н.Ф. выходит из командного пун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55640" y="3429000"/>
            <a:ext cx="2989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ование Северо-западного фронта. Слева направо: В.Н.Богаткин, П.А.Курочкин, Н.Ф.Ватутин. 1942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809880" cy="2390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68360" y="3068640"/>
            <a:ext cx="419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ва направо: П.С.Рыбалко, И.Ф.Ватутин, К.С.Москаленко. Октябрь 194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6:09:03Z</dcterms:created>
  <dc:creator>ковалева</dc:creator>
  <dc:description/>
  <dc:language>en-US</dc:language>
  <cp:lastModifiedBy>Елена</cp:lastModifiedBy>
  <dcterms:modified xsi:type="dcterms:W3CDTF">2013-04-04T20:44:36Z</dcterms:modified>
  <cp:revision>6</cp:revision>
  <dc:subject/>
  <dc:title>Ерошенко Василий Яковлевич </dc:title>
</cp:coreProperties>
</file>