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D19-651A-444E-95EE-017AC442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89F-95B4-476E-933C-6274353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3EF-C912-45F6-90B3-EF301BDC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C87D-757E-4C8E-AA97-E018B529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A3D3-8B31-4089-9868-D880C841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9888-DE67-4A1C-B19A-878E5B26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A084-4CB2-40F5-AE33-06B32628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46C2-0C62-4007-8C8D-2875DC7D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BE6C-C1AC-41E5-9879-61A1D2B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227F-470C-4A30-A6A6-5B8553D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A251-3376-4430-B5F0-FFBF2A3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AC7-5A5A-436F-82A5-844CAA86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09C3-5EFE-4B05-8B22-F86D4D11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337-2EC3-49C9-8363-65CB991A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9D6-3CBF-45CB-9560-3C5571E9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D2BE-DC8F-44F6-966D-E023E6B2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7C9D-F812-484C-9A3C-1C2691A5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259-A367-42E3-A8F4-8BF6839D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AD7-3A43-42B4-9D85-CD01E727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3DD-4491-4B1B-B1AF-25734419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6F2-3755-4079-BE17-0ED3D9AA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10A-AF94-44C6-AC1C-B0F1CB3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FC1-2345-4744-BAB2-B1F2F8B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7DA9-9809-4B83-9ACE-48CCDAB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FA2-C60B-4633-AAD9-27A76F83D67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5085-ACD5-42C0-A430-9D35D5D688F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3"/>
          <p:cNvSpPr/>
          <p:nvPr/>
        </p:nvSpPr>
        <p:spPr>
          <a:xfrm>
            <a:off x="2392200" y="94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14"/>
          <p:cNvSpPr txBox="1"/>
          <p:nvPr/>
        </p:nvSpPr>
        <p:spPr>
          <a:xfrm>
            <a:off x="324000" y="260280"/>
            <a:ext cx="67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им тебя, Старый Оскол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15" descr="Старый Оскол (Белгородская область), герб"/>
          <p:cNvPicPr/>
          <p:nvPr/>
        </p:nvPicPr>
        <p:blipFill>
          <a:blip r:embed="rId4"/>
          <a:stretch/>
        </p:blipFill>
        <p:spPr>
          <a:xfrm>
            <a:off x="7637400" y="260280"/>
            <a:ext cx="1287360" cy="1584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6"/>
          <p:cNvSpPr/>
          <p:nvPr/>
        </p:nvSpPr>
        <p:spPr>
          <a:xfrm>
            <a:off x="179280" y="4581360"/>
            <a:ext cx="363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ровоторо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227640" y="21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ект посвящен 419 годовщине города Старый Оско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392200" y="94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дость видеть и понимать-есть самый прекрасный дар природы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А.Эйнштейн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708280"/>
            <a:ext cx="75438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 Старый Оскол - административный центр Старооскольского район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положенного на северо-востоке Белгородской обла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ерритория Староосколья, одного из богатейших райо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рской магнитной аномалии, раскинулась на площад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9937 гектаров. В городе проживает 250,5 тысяч челове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ый Оскол был основан в 1593 году по повелени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аря Федора Иоанновича для защиты южных рубежей России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"Город на взгорье" - Старый Оскол, город древний и молодой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тет и год от года преображается. В третье тысячелети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н вошел одним из самых динамично развивающихс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родов Черноземья Росс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logol"/>
          <p:cNvPicPr/>
          <p:nvPr/>
        </p:nvPicPr>
        <p:blipFill>
          <a:blip r:embed="rId1"/>
          <a:stretch/>
        </p:blipFill>
        <p:spPr>
          <a:xfrm>
            <a:off x="395280" y="333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logor1"/>
          <p:cNvPicPr/>
          <p:nvPr/>
        </p:nvPicPr>
        <p:blipFill>
          <a:blip r:embed="rId2"/>
          <a:stretch/>
        </p:blipFill>
        <p:spPr>
          <a:xfrm>
            <a:off x="6227640" y="404640"/>
            <a:ext cx="2590920" cy="21099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3059280" y="1268280"/>
            <a:ext cx="30765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Старый Оск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32360" y="260280"/>
            <a:ext cx="376560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В конце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XVI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века Старооскольский край, занимающий верхнее Приосколье, находился на южном рубеже Московского государства в степных просторах «дикого поля». </a:t>
            </a:r>
            <a:br>
              <a:rPr sz="1800"/>
            </a:b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Город - крепость, основанный в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XVI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веке царем Федором Иоанновичем, унаследовал имя реки - Оскол. Большую часть населения составляли тогда дети боярские (служилые люди по отечеству) и служилые люди «по прибору»: стрельцы, пушкари, драгуны, солдаты. С основанием города стали складываться посад и Оскольский уезд. Посад находился в большом остроге и состоял из слобод Казацкой, Пушкарской, Ездоцкой, Стрелецкой.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6" descr="2"/>
          <p:cNvPicPr/>
          <p:nvPr/>
        </p:nvPicPr>
        <p:blipFill>
          <a:blip r:embed="rId1"/>
          <a:stretch/>
        </p:blipFill>
        <p:spPr>
          <a:xfrm>
            <a:off x="250920" y="189000"/>
            <a:ext cx="4362480" cy="640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9:34:31Z</dcterms:created>
  <dc:creator>Пользователь</dc:creator>
  <dc:description/>
  <dc:language>en-US</dc:language>
  <cp:lastModifiedBy>Елена</cp:lastModifiedBy>
  <dcterms:modified xsi:type="dcterms:W3CDTF">2013-04-04T20:43:17Z</dcterms:modified>
  <cp:revision>40</cp:revision>
  <dc:subject/>
  <dc:title>Город Старый Оскол - административный центр старооскольского района, расположенного на северо-востоке Белгородской области. Территория Староосколья, одного из богатейших районов Курской магнитной аномалии, раскинулась на площади 19937 гектаров. В городе проживает 250,5 тысяч человек. Старый Оскол был основан в 1593 году по повелению царя Федора Иоанновича для защиты южных рубежей России. "Город на взгорье" - Старый Оскол, город древний и молодой, растет и год от года преображается. В третье тысячелетие он вошел одним из самых динамично развивающихся городов Черноземья России.</dc:title>
</cp:coreProperties>
</file>